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CFA-330D-4D81-8370-27834287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6F6-6555-4F93-8257-3762FA4A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66E-4CC5-4589-9C9D-3777D681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876-6A2E-4A56-A92C-EB5B9A52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DF0-4989-4659-8F18-3B9641B3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8A3-2F10-4218-A1DC-649476C7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CAE-3D20-407A-B252-1E5D3AF8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04D-D5F8-46D9-8143-C5596E3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F70-345C-4E72-ABE4-B42445F8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0E7-33D3-4D95-A3B6-A721E884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E90-E315-4887-BFE9-6AB48C0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741-0BFC-48E6-B8FB-0532F15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219-61B6-4EFE-A2EF-4A510AEC1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lefoodsmarket.com/products/produce/images/grapes300w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biotechnologyonline.gov.au/images/contentpages/grains.jpg&amp;imgrefurl=http://www.biotechnologyonline.gov.au/popups/img_grains.html&amp;h=508&amp;w=760&amp;sz=31&amp;hl=en&amp;start=7&amp;sig2=uw2KO5nn1r4Mnhe8AS_OMQ&amp;um=1&amp;usg=__PW6QjtJyumaFjRw-3hehCk9JvqI=&amp;tbnid=VjwFtihyIIJaeM:&amp;tbnh=95&amp;tbnw=142&amp;ei=XzHiSKn1EIay9ASdrMCzDg&amp;prev=/images%3Fq%3Dgrains%26um%3D1%26hl%3Den%26rlz%3D1T4GGLG_en___US256%26sa%3DN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ancientRome_Full"/>
          <p:cNvPicPr/>
          <p:nvPr/>
        </p:nvPicPr>
        <p:blipFill>
          <a:blip r:embed="rId1"/>
          <a:stretch/>
        </p:blipFill>
        <p:spPr>
          <a:xfrm>
            <a:off x="0" y="-114480"/>
            <a:ext cx="9342360" cy="7240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ncient R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lla Rustica – mid-size farm and family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303200" y="1522440"/>
            <a:ext cx="67518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fundia – large-scale, agricultural production 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39840" y="1069920"/>
            <a:ext cx="50310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was a busy metropolis whose inhabitants enjoyed the advantages and disadvantages of life in a densely populated urban capi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althiest families possess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power.  Senators served for lif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members of these group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families were call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ATRIC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class of Romans, th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LEBEI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oners) included small farmers, artisans, barbers, booksellers, butchers, cobblers, fishermen, food vendors, furniture sellers, perfume makers, tavern owners,  money lenders, shopkeepe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plebeian"/>
          <p:cNvPicPr/>
          <p:nvPr/>
        </p:nvPicPr>
        <p:blipFill>
          <a:blip r:embed="rId1"/>
          <a:srcRect l="0" t="7791" r="7818" b="0"/>
          <a:stretch/>
        </p:blipFill>
        <p:spPr>
          <a:xfrm>
            <a:off x="5245200" y="4890960"/>
            <a:ext cx="3573360" cy="18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patrician"/>
          <p:cNvPicPr/>
          <p:nvPr/>
        </p:nvPicPr>
        <p:blipFill>
          <a:blip r:embed="rId2"/>
          <a:srcRect l="6379" t="6398" r="0" b="0"/>
          <a:stretch/>
        </p:blipFill>
        <p:spPr>
          <a:xfrm>
            <a:off x="5396040" y="1422360"/>
            <a:ext cx="34812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883800"/>
            <a:ext cx="48499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ATRIC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olled the government, they found themselves unable to exist without the plebei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LEBE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d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pplied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B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kept the Roman economy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supplied the soldiers for the Roma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LIT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specially important since Rome was in continual military conflict during the age of the Republic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tatue05"/>
          <p:cNvPicPr/>
          <p:nvPr/>
        </p:nvPicPr>
        <p:blipFill>
          <a:blip r:embed="rId1"/>
          <a:stretch/>
        </p:blipFill>
        <p:spPr>
          <a:xfrm>
            <a:off x="5573880" y="1073160"/>
            <a:ext cx="32623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95120" y="1514160"/>
            <a:ext cx="36799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ient Rome had an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GRICULTURAL, SLAVE-BASED EC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se main purpose was to feed the vast number of citizens and legionaries who populated the Mediterranean reg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857760" y="841320"/>
            <a:ext cx="52657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3440" y="736560"/>
            <a:ext cx="50767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talian economy depended on slave labor. Slaves served in many capacities. One slave trained in medicine was worth the price of 50 agricultural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romeslaves1"/>
          <p:cNvPicPr/>
          <p:nvPr/>
        </p:nvPicPr>
        <p:blipFill>
          <a:blip r:embed="rId1"/>
          <a:stretch/>
        </p:blipFill>
        <p:spPr>
          <a:xfrm>
            <a:off x="5464080" y="819000"/>
            <a:ext cx="33973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2520" y="2298240"/>
            <a:ext cx="7645320" cy="29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farming methods learned from the Greeks and Carthaginians in North Africa led to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ARGE-SCALE P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olive oil, wine, sheep, and cattle. This trend was especially profitable because an abundance of cheap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LA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These large slave plantations, called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ATIFUN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25480" y="282600"/>
            <a:ext cx="7672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7680" y="733320"/>
            <a:ext cx="4944960" cy="569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ple crops of Roman farmers in Italy wer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EAT, BARLEY, OLIVE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GR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LIVE O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among the most important products in the ancient civilized world and led Italy's exports.  Farmers also grew onions, celery, thyme, cabbage, basil, beets, radishes, and pars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ers bred animals like sheep, goats, chickens, and pi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ans imported other goods like cinnamon, pepper, salt, corn, silk, dye, cotton, papyrus, tin, ivory, gold, silver, timber, and mar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grapes300w">
            <a:hlinkClick r:id="rId1"/>
          </p:cNvPr>
          <p:cNvPicPr/>
          <p:nvPr/>
        </p:nvPicPr>
        <p:blipFill>
          <a:blip r:embed="rId2"/>
          <a:srcRect l="0" t="-324" r="0" b="0"/>
          <a:stretch/>
        </p:blipFill>
        <p:spPr>
          <a:xfrm>
            <a:off x="6272280" y="4168800"/>
            <a:ext cx="2535120" cy="23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gra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62560" y="587520"/>
            <a:ext cx="2500560" cy="167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olives"/>
          <p:cNvPicPr/>
          <p:nvPr/>
        </p:nvPicPr>
        <p:blipFill>
          <a:blip r:embed="rId5"/>
          <a:stretch/>
        </p:blipFill>
        <p:spPr>
          <a:xfrm>
            <a:off x="6249960" y="2363760"/>
            <a:ext cx="25225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600" y="782640"/>
            <a:ext cx="407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ers could give crops to the government instead of paying monetary tax. This system allowed politicians to gain popularity with the masses through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REE GRAIN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grains-762448"/>
          <p:cNvPicPr/>
          <p:nvPr/>
        </p:nvPicPr>
        <p:blipFill>
          <a:blip r:embed="rId1"/>
          <a:stretch/>
        </p:blipFill>
        <p:spPr>
          <a:xfrm>
            <a:off x="4654440" y="828720"/>
            <a:ext cx="4238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482400"/>
            <a:ext cx="4038480" cy="60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most pressing problems was th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ISAPPEARANCE OF THE SMALL LANDOW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Burdened by frequent military service, his farm buildings being destroyed by war, and being unable to compete with the cheap grain imported from  new Roman colonies, th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MALL FARM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ually had a second job.  Horace’s father was a farmer as well as an auctioneer’s ag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enna"/>
          <p:cNvPicPr/>
          <p:nvPr/>
        </p:nvPicPr>
        <p:blipFill>
          <a:blip r:embed="rId1"/>
          <a:stretch/>
        </p:blipFill>
        <p:spPr>
          <a:xfrm>
            <a:off x="4537080" y="585720"/>
            <a:ext cx="44672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59:20Z</dcterms:created>
  <dc:creator>Edrene S. McKay</dc:creator>
  <dc:description/>
  <dc:language>en-US</dc:language>
  <cp:lastModifiedBy>ebony</cp:lastModifiedBy>
  <dcterms:modified xsi:type="dcterms:W3CDTF">2013-11-05T17:36:57Z</dcterms:modified>
  <cp:revision>25</cp:revision>
  <dc:subject/>
  <dc:title>A Comparison of Ancient Civilizations</dc:title>
</cp:coreProperties>
</file>